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368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5120" y="167328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9224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368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5120" y="368280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5840" y="368280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22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5840" y="167328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2240" y="368280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80440" y="67215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5aa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281160" y="6594480"/>
            <a:ext cx="363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6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5ca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overmast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620720" y="588816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ides prepar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Withgott and Heidi Marc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9672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33080" y="6746760"/>
            <a:ext cx="40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054080" y="232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734040" y="215892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aae5"/>
                </a:solidFill>
                <a:latin typeface="Times New Roman"/>
              </a:rPr>
              <a:t>Ch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81920" y="30384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aae5"/>
                </a:solidFill>
                <a:latin typeface="Times New Roman"/>
              </a:rPr>
              <a:t>Human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746280" y="442584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3b18"/>
                </a:solidFill>
                <a:latin typeface="Times New Roman"/>
              </a:rPr>
              <a:t>Part 2: Environmental Issues and the Search fo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2240" y="167328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post.com/2010/11/30/medvedev-preaches-population-increase-for-a-stable-russia/" TargetMode="External"/><Relationship Id="rId2" Type="http://schemas.openxmlformats.org/officeDocument/2006/relationships/hyperlink" Target="http://news.bbc.co.uk/2/hi/6990802.s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SROlfR7WT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ensus.gov/main/www/popclock.html" TargetMode="External"/><Relationship Id="rId2" Type="http://schemas.openxmlformats.org/officeDocument/2006/relationships/hyperlink" Target="http://www.ibiblio.org/lunarbin/worldpop" TargetMode="External"/><Relationship Id="rId3" Type="http://schemas.openxmlformats.org/officeDocument/2006/relationships/hyperlink" Target="http://www.ibiblio.org/lunarbin/worldpop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3-2011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09240"/>
            <a:ext cx="87886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op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over ecosystem ecology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lking about human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human population is still growing rapidl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759240"/>
            <a:ext cx="8001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ook all of human history to reach 1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30, 130 years later, we reached 2 billion, and added the most recent billion in 1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08_02"/>
          <p:cNvPicPr/>
          <p:nvPr/>
        </p:nvPicPr>
        <p:blipFill>
          <a:blip r:embed="rId1"/>
          <a:stretch/>
        </p:blipFill>
        <p:spPr>
          <a:xfrm>
            <a:off x="1981080" y="2165400"/>
            <a:ext cx="5105520" cy="3549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e to exponential growth, even if the growth rate remains steady, population will continue to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ates of growth vary from region to reg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5" descr="08_03"/>
          <p:cNvPicPr/>
          <p:nvPr/>
        </p:nvPicPr>
        <p:blipFill>
          <a:blip r:embed="rId1"/>
          <a:stretch/>
        </p:blipFill>
        <p:spPr>
          <a:xfrm>
            <a:off x="914400" y="762120"/>
            <a:ext cx="6647040" cy="2882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37339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oday’s 1.2% global growth rate, the population will double in 58 years (70/1.2 = 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ing time rule of thumb – estimate pop doubling time by dividing 70 by growth rate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hina’s rate continued at 2.8%, it would have had 2 billion people in 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750240"/>
            <a:ext cx="8788320" cy="16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untries have negative growth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, eastern Europe,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08_03"/>
          <p:cNvPicPr/>
          <p:nvPr/>
        </p:nvPicPr>
        <p:blipFill>
          <a:blip r:embed="rId1"/>
          <a:stretch/>
        </p:blipFill>
        <p:spPr>
          <a:xfrm>
            <a:off x="0" y="2892600"/>
            <a:ext cx="91440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728640"/>
            <a:ext cx="8788680" cy="45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– experiencing slow population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incentives to boost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news.nationalpost.com/2010/11/30/medvedev-preaches-population-increase-for-a-stable-russia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egion has a ‘sex day’ to increase births (win a prize if your child is born 9 months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news.bbc.co.uk/2/hi/6990802.s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s population growth really a problem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838800"/>
            <a:ext cx="8381880" cy="61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has population ri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th rates drop, but birth rates stay same (not necessarily MORE bir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itation, food, healthcare, etc = less infant 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problem?  Why / why not? (Some people say growth is no probl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sources will replace depleted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some resources (i.e., biodiversity) are irrepla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 life will suffer with unchecked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ood, space, wealth per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2240" y="2880720"/>
            <a:ext cx="8788320" cy="14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re some not concerned about the problems associated with the growth of the human pop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6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2240" y="1155240"/>
            <a:ext cx="878832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initial population is 5 and the final population count is 10, over the course to 4 days, what is the rate of growth?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eet – causes and consequences of population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ith Nat Geo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PSROlfR7W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opulation growth (ear muff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10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093320"/>
            <a:ext cx="878868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the variables in the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tion stand f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background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B’s due sometime this wee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r pre-lab questions after the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:  Set up the duckweed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11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2240" y="483480"/>
            <a:ext cx="4317840" cy="62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ne use of the duckw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your lab – get out your lab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oup will test a different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720" y="1168920"/>
            <a:ext cx="431784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need 6 groups of two or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oup will need 9 test t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extra time – get a laptop and create a data table for you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13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495360"/>
            <a:ext cx="8788320" cy="539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K stand for in the logistic growth eq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 laptop – create a data table for your results (look on page S-7 for an examp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your groups duckweed and make a population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your data in your data table.  Include the number of duckweed you placed in the experiment on Tues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Quiz, ATB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14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9840"/>
            <a:ext cx="878868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opulation of Chi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your population 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one count Sirolly’s and Tarek’s duckw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z will be Mon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in your ATB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18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914400"/>
          <a:ext cx="8381880" cy="4433760"/>
        </p:xfrm>
        <a:graphic>
          <a:graphicData uri="http://schemas.openxmlformats.org/drawingml/2006/table">
            <a:tbl>
              <a:tblPr/>
              <a:tblGrid>
                <a:gridCol w="1189080"/>
                <a:gridCol w="942840"/>
                <a:gridCol w="1096920"/>
                <a:gridCol w="1282680"/>
                <a:gridCol w="1614600"/>
                <a:gridCol w="225576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Frond 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Frond Grow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s Since Previous 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 in Number of Fronds per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 in the Number of Fronds per Day per Fr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2240" y="2247840"/>
          <a:ext cx="4314240" cy="2698920"/>
        </p:xfrm>
        <a:graphic>
          <a:graphicData uri="http://schemas.openxmlformats.org/drawingml/2006/table">
            <a:tbl>
              <a:tblPr/>
              <a:tblGrid>
                <a:gridCol w="4314240"/>
              </a:tblGrid>
              <a:tr h="269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 in # fronds per day / daily frond count =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 in # fronds per day per fr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662360" y="2247840"/>
          <a:ext cx="4314600" cy="2698920"/>
        </p:xfrm>
        <a:graphic>
          <a:graphicData uri="http://schemas.openxmlformats.org/drawingml/2006/table">
            <a:tbl>
              <a:tblPr/>
              <a:tblGrid>
                <a:gridCol w="4314600"/>
              </a:tblGrid>
              <a:tr h="269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Frond growth / # days since previous count =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 in the Number of Fronds per Day per Fr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s lecture will help you understand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8600"/>
            <a:ext cx="437976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ope of human population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population, affluence and technology o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dem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mographic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that affect population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V/AIDS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08_00CO"/>
          <p:cNvPicPr/>
          <p:nvPr/>
        </p:nvPicPr>
        <p:blipFill>
          <a:blip r:embed="rId1"/>
          <a:stretch/>
        </p:blipFill>
        <p:spPr>
          <a:xfrm>
            <a:off x="4724280" y="1828800"/>
            <a:ext cx="3981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4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2240" y="2319120"/>
            <a:ext cx="87883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opulation of China?  What is the population of the 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2240" y="2247480"/>
            <a:ext cx="87883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ase study: China’s one-child polic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558000"/>
            <a:ext cx="5029200" cy="59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ina’s population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50’s Mao Zedong encouraged population growth (540 million at that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, China’s 790 million people faced starvation - At this point the avg. Chinese woman gave birth to 5.8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created as a resu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vernment instituted a one-child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education, contraceptives and ab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d later marriages with fewe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08_00-CS"/>
          <p:cNvPicPr/>
          <p:nvPr/>
        </p:nvPicPr>
        <p:blipFill>
          <a:blip r:embed="rId1"/>
          <a:stretch/>
        </p:blipFill>
        <p:spPr>
          <a:xfrm>
            <a:off x="5014800" y="1447920"/>
            <a:ext cx="407052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32767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2240" y="1004040"/>
            <a:ext cx="8788320" cy="51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poli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’s growth rate plummeted (went from 2.8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6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4, the policy exempted ethnic minorities and farmers (applies mostly to urban cou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ntended consequenc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ing female inf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unequal se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-market trade in teenage gi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uman population growth: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706680"/>
            <a:ext cx="7772400" cy="279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eople are on eart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ensus.gov/main/www/popclock.htm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ibiblio.org/lunarbin/worldp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the population increase the high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-stricken developing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e of growth is s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are st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asing in absolut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3352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take 30 years, counting once each second, to count to a bill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08_01"/>
          <p:cNvPicPr/>
          <p:nvPr/>
        </p:nvPicPr>
        <p:blipFill>
          <a:blip r:embed="rId4"/>
          <a:stretch/>
        </p:blipFill>
        <p:spPr>
          <a:xfrm>
            <a:off x="5334120" y="3124080"/>
            <a:ext cx="36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-5 A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2240" y="2323800"/>
            <a:ext cx="878832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two unintended consequences of China’s one child poli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population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– Population growth:  Lab background quiz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53:25Z</dcterms:created>
  <dc:creator>Kaitlyn Pearce</dc:creator>
  <dc:description/>
  <dc:language>en-US</dc:language>
  <cp:lastModifiedBy>SASD</cp:lastModifiedBy>
  <dcterms:modified xsi:type="dcterms:W3CDTF">2011-01-14T17:04:04Z</dcterms:modified>
  <cp:revision>162</cp:revision>
  <dc:subject/>
  <dc:title>Chapter 8 Cont’d.</dc:title>
</cp:coreProperties>
</file>